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5C3-2721-430E-BBEC-ADFD2608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5E8-A978-438F-81FD-908FDBF9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30D-32AA-4424-A922-8BDEB3A1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120-C67C-430E-8C66-375FF811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7714-5D67-40E3-B08B-9B5A0E97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B355-BE03-4844-B45D-C40091D1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DD88-5A62-479E-B3BA-8D91513D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4E6A-61E3-4B15-9AC3-19E7A978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5696-8A21-4965-89CB-5955A8EC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BDB1-1C99-40D9-BC87-C233B3BC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7A6B-1D1D-4E70-A69D-FCDBC609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D71-1B43-46E7-ABF2-AABD0AC7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89F4-8AD8-4876-8F44-897A60A1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D7EA-80C8-44C8-B147-3D3B3A14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9293-1250-4D13-AFF4-82C19B9D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E158-4F92-4C09-955D-5B01758E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25ED-8D5E-436F-8A20-E164DFE9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16C-D6B5-4E7B-91DE-4463699E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D82-8536-4903-9A2D-7E2F4FDF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D62-F0D1-4E39-8F71-ED0D2AA6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E35-7606-4C01-90CF-526D1411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449-3E6E-4E22-9109-D9B01E7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D60-34C1-48A5-ADEA-9B040220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3A7-541E-48C5-AC7A-61A77A6C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30FC-4B1A-4A81-9C5E-117C0CBD298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B140-889B-49B0-97CB-47C8451ECA5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ad Wr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lead can make or break your stor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t is the first thing the reader looks at beyond the other graphic elem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rted Pyramid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ost important facts go at the top of the artic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ast important at the botto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o the newspaper editors can simply lob off the end of the artic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atural way to tell a stor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aders in a hurry can get news quickl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id for the headline writ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 / Summary L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ot very crea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hort and to the poi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lled with inform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mul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News + Attribution + Verb + V Subject + Time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92929"/>
                </a:solidFill>
                <a:latin typeface="Arial"/>
              </a:rPr>
              <a:t>Examples on p. 130-131</a:t>
            </a:r>
            <a:endParaRPr b="0" lang="en-US" sz="2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92929"/>
                </a:solidFill>
                <a:latin typeface="Arial"/>
              </a:rPr>
              <a:t>Crutch for the lazy journalist</a:t>
            </a:r>
            <a:endParaRPr b="0" lang="en-US" sz="2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92929"/>
                </a:solidFill>
                <a:latin typeface="Arial"/>
              </a:rPr>
              <a:t>Do not use these often – only for stories that absolutely deem them necessary</a:t>
            </a:r>
            <a:endParaRPr b="0" lang="en-US" sz="29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the L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at does my reader need to know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 creat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interesting inform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xample on p. 13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 object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void clichés and be objective in what you are report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reate a lead that fits the stor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lead should be smooth, concise, readable, and interesting while giving the essential inf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e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amine the sample leads on p. 135-139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atic Le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ng leads – keep leads short and to the poi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Leads should be no more than 25-30 word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92929"/>
                </a:solidFill>
                <a:latin typeface="Arial"/>
              </a:rPr>
              <a:t>Short leads are easy to read</a:t>
            </a:r>
            <a:endParaRPr b="0" lang="en-US" sz="29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Don’t make them too short!  You don’t want to forget important information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92929"/>
                </a:solidFill>
                <a:latin typeface="Arial"/>
              </a:rPr>
              <a:t>Grammar / Content</a:t>
            </a:r>
            <a:endParaRPr b="0" lang="en-US" sz="29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Look at the examples on p. 142-143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otation and Question Le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void quotation lead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t’s the lazy way out of writing a lea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on’t do 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t’s not your job to ask questions – you are supposed to answer th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ew things to remembe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subject / verb / object ord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write overstuffed lea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void direct quotation lea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void questions in the lea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oose a positive angle when possi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on’t bury the lea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on’t write trite or clichéd lea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plain tal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nk ahea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9:57:51Z</dcterms:created>
  <dc:creator>jvanengen</dc:creator>
  <dc:description/>
  <dc:language>en-US</dc:language>
  <cp:lastModifiedBy>jvanengen</cp:lastModifiedBy>
  <dcterms:modified xsi:type="dcterms:W3CDTF">2009-07-23T20:07:19Z</dcterms:modified>
  <cp:revision>1</cp:revision>
  <dc:subject/>
  <dc:title>Chapter 6</dc:title>
</cp:coreProperties>
</file>